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7A19-3B1D-422E-8547-F1D976E2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557C-AA81-4A86-84C3-FA4DA00F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6FD-5E9C-43C2-9E50-14BF0420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B2E-C84A-4F04-8D24-9065131A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BBE2-8B80-4628-A730-F06FE549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A647-5944-4972-A9E2-FA4D6090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4DD-45FF-49C9-9893-00331E9A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3769-6E70-4324-BAB3-3F3A041E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262-5552-4EAA-B960-7F524B84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4F68-9326-4EE6-BC89-8AF77BB4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DD1A-FB98-461A-A1CD-1DC4F845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913-3D48-47D9-83A1-3FA3D14B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23F2-B9F9-471C-8807-1095E65EB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35120" y="0"/>
            <a:ext cx="587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21:20:35Z</dcterms:created>
  <dc:creator>Patrick J. Mooney</dc:creator>
  <dc:description/>
  <dc:language>en-US</dc:language>
  <cp:lastModifiedBy>Patrick J. Mooney</cp:lastModifiedBy>
  <dcterms:modified xsi:type="dcterms:W3CDTF">2009-12-14T21:24:24Z</dcterms:modified>
  <cp:revision>1</cp:revision>
  <dc:subject/>
  <dc:title>Slide 1</dc:title>
</cp:coreProperties>
</file>